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9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38.jpeg" ContentType="image/jpeg"/>
  <Override PartName="/ppt/media/image30.jpeg" ContentType="image/jpeg"/>
  <Override PartName="/ppt/media/image31.png" ContentType="image/png"/>
  <Override PartName="/ppt/media/image19.jpeg" ContentType="image/jpeg"/>
  <Override PartName="/ppt/media/image11.png" ContentType="image/png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41.jpeg" ContentType="image/jpeg"/>
  <Override PartName="/ppt/media/image39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6A47-1C16-494F-9A6B-611ABC502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and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where we 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958E-A77F-4FD5-AD63-7B087DCD5E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Mars and Jupiter is and asteroid b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liqui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CA42-3840-42D0-AADA-27C5D0AA5B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, the largest planet, is fif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is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rings, and 63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Red Spot is a storm that has been there ever since Galileo saw it 400 years ag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0502-9F4F-4F82-BD0D-AE84B95548A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the sixth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famous for its rings, which are easy to see with a telescope – Galileo saw them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56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58BC-C07F-4AD2-9DFC-E22B4787E67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is a gas planet, too – all four of the outer planets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pins sideways, probably because it was hit by a comet or aster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has thin rings and 27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7B30-DBE9-4CA1-A315-4DA43CF370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is the farthest a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gas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VERY strong winds, over 400 miles an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has 13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13C5-71FF-4C10-A7D8-B523CD5A12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and the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is another body now called a PLUT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n irregular orbit – tilted and elong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3 moons – one is very 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is, the newest body, is also a Plut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only on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0176-B00D-4E06-B9B5-E47C393FCF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o think ab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t least one more planet, but it may be a giant, we just don’t know yet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is always going on to help us know our way around our neighborhood –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someday YOU will travel to one of these wonderful pla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8032-DB50-4626-9070-02043BCAE6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re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s and 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 junk and tr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8975-CA5E-4C95-97A2-D1DF778A5F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– our very own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center of our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rd “solar” means “of the su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is a medium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un is medium-hot, and yel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B54C-97F8-4AD0-8D56-8997166B50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lay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is called the core – it is 27,000,00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er layer is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yer under the chromosphere is the photosphere, where light and other forms of energy are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der the photosphere is the convective zone where heat is rel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yer above the core is the 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DB70-7911-4100-B850-DA8C5D51FB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3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made up of g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abundant gas is Hydrog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is undergoing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make Helium, which releases a huge amount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energy released include light, heat, and various rays, like X rays and gamma rays, which are forms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38FB-BA7D-4384-B288-EC9A9271EE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7277-991F-4E83-A1BD-A7F7E955CE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four - 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ner four planets are formed mostly of r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is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very little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n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VERY H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96DA-B8A4-46E1-B589-3AFC55B6F8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a very thick atmosphere, and this makes the temperature the highest 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n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bout the same size as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1E43-2438-4A37-8BAE-8CB6B9C48B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is 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liqui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medium-thick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on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where we 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65D1-84FC-42BE-9D83-0FFC90BC99E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is fou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thinner atmosphere tha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urface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winds some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o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DFFD-21E8-473D-8537-335082CBEC8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0B21-0225-4109-8A4E-FC9F8899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953-FB7E-49A8-8A5D-B9873646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71B-58EB-4C00-B3D4-E0FCA40C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07D-13D3-40FC-99E3-00225BC6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25AD-E32E-43F8-A422-C6CB8B43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D997-77D3-49B3-816C-3951C8DA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0CBC-EF47-4F02-9106-7B3A6C47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D6BA-DBAE-4EEB-B249-3AB41A73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7943-B737-4333-BB65-21B077B4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E1EB-41DC-40F4-A766-BF6E990A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48C5-3EA8-4124-ACCA-69CD34CB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5F1-0D60-4DD3-A4C2-286AE1BD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CA20-EBDF-4764-9F85-319AB4C7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71E2-E101-4904-928C-2836A7B2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06C0-F7DC-47DB-B64A-4AA48922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F46E-2DD0-43A0-95C4-B636C9FD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7567-7E50-4A65-9287-65E47CD9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103-2584-4C62-B120-A923F670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61BA-3172-4C18-B52C-748B6B75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88F-84AE-4A76-84E3-3B49D428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F05B-1A05-4EC8-A0E0-29567FE3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ACA-3B4D-4B0A-B3A6-CA21E3F1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581-7607-4E73-8B7B-33CDAD67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DA2-B1F7-458A-B8BB-1650421F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D97A-66D2-47AC-A223-F381C736CC4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3632-5EFE-4AF5-BD01-D11BB90D4AB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229600" cy="2401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neighborhood where we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tween Mars and Jupiter is and asteroid be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ts of roc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 liquid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Picture 3" descr="asteroid belt.jpg"/>
          <p:cNvPicPr/>
          <p:nvPr/>
        </p:nvPicPr>
        <p:blipFill>
          <a:blip r:embed="rId2"/>
          <a:stretch/>
        </p:blipFill>
        <p:spPr>
          <a:xfrm>
            <a:off x="3581280" y="3200400"/>
            <a:ext cx="40719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piter, the largest planet, is fif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piter is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rings, and 63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Great Red Spot is a storm that has been there ever since Galileo saw it 400 years ago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3" descr="jupiter.jpg"/>
          <p:cNvPicPr/>
          <p:nvPr/>
        </p:nvPicPr>
        <p:blipFill>
          <a:blip r:embed="rId2"/>
          <a:stretch/>
        </p:blipFill>
        <p:spPr>
          <a:xfrm>
            <a:off x="3429000" y="4114800"/>
            <a:ext cx="25909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turn is the sixth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also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turn is famous for its rings, which are easy to see with a telescope – Galileo saw them, to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as 56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5" name="Picture 3" descr="saturn.jpg"/>
          <p:cNvPicPr/>
          <p:nvPr/>
        </p:nvPicPr>
        <p:blipFill>
          <a:blip r:embed="rId2"/>
          <a:stretch/>
        </p:blipFill>
        <p:spPr>
          <a:xfrm>
            <a:off x="609480" y="41911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saturns rings.jpg"/>
          <p:cNvPicPr/>
          <p:nvPr/>
        </p:nvPicPr>
        <p:blipFill>
          <a:blip r:embed="rId3"/>
          <a:stretch/>
        </p:blipFill>
        <p:spPr>
          <a:xfrm>
            <a:off x="4876920" y="3733920"/>
            <a:ext cx="33764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anus is a gas planet, too – all four of the outer planets a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spins sideways, probably because it was hit by a comet or aster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anus has thin rings and 27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3" descr="uranus.jpg"/>
          <p:cNvPicPr/>
          <p:nvPr/>
        </p:nvPicPr>
        <p:blipFill>
          <a:blip r:embed="rId2"/>
          <a:stretch/>
        </p:blipFill>
        <p:spPr>
          <a:xfrm>
            <a:off x="3352680" y="4038480"/>
            <a:ext cx="259092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ptune is the farthest away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a gas plan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VERY strong winds, over 400 miles an hou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ptune has 13 mo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3" descr="neptune.jpg"/>
          <p:cNvPicPr/>
          <p:nvPr/>
        </p:nvPicPr>
        <p:blipFill>
          <a:blip r:embed="rId2"/>
          <a:stretch/>
        </p:blipFill>
        <p:spPr>
          <a:xfrm>
            <a:off x="3352680" y="42670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luto is another body now called a PLUT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an irregular orbit – tilted and elongat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3 moons – one is very lar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ris, the newest body, is also a Plut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only one mo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5" name="Picture 3" descr="pluto.jpg"/>
          <p:cNvPicPr/>
          <p:nvPr/>
        </p:nvPicPr>
        <p:blipFill>
          <a:blip r:embed="rId2"/>
          <a:stretch/>
        </p:blipFill>
        <p:spPr>
          <a:xfrm>
            <a:off x="762120" y="4343400"/>
            <a:ext cx="284472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eris.jpg"/>
          <p:cNvPicPr/>
          <p:nvPr/>
        </p:nvPicPr>
        <p:blipFill>
          <a:blip r:embed="rId3"/>
          <a:stretch/>
        </p:blipFill>
        <p:spPr>
          <a:xfrm>
            <a:off x="4851360" y="3962520"/>
            <a:ext cx="3454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is at least one more planet, but it may be a giant, we just don’t know yet…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earch is always going on to help us know our way around our neighborhood – the SOLAR SYSTEM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ybe someday YOU will travel to one of these wonderful pla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also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eors and come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ce dus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tellit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ace junk and tras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Picture 3" descr="comet.jpg"/>
          <p:cNvPicPr/>
          <p:nvPr/>
        </p:nvPicPr>
        <p:blipFill>
          <a:blip r:embed="rId2"/>
          <a:stretch/>
        </p:blipFill>
        <p:spPr>
          <a:xfrm>
            <a:off x="0" y="4800600"/>
            <a:ext cx="2540160" cy="190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meteor.jpg"/>
          <p:cNvPicPr/>
          <p:nvPr/>
        </p:nvPicPr>
        <p:blipFill>
          <a:blip r:embed="rId3"/>
          <a:stretch/>
        </p:blipFill>
        <p:spPr>
          <a:xfrm>
            <a:off x="5715000" y="43434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meteor crater.jpg"/>
          <p:cNvPicPr/>
          <p:nvPr/>
        </p:nvPicPr>
        <p:blipFill>
          <a:blip r:embed="rId4"/>
          <a:stretch/>
        </p:blipFill>
        <p:spPr>
          <a:xfrm>
            <a:off x="7238880" y="5334120"/>
            <a:ext cx="1774800" cy="1076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rater 2.jpg"/>
          <p:cNvPicPr/>
          <p:nvPr/>
        </p:nvPicPr>
        <p:blipFill>
          <a:blip r:embed="rId5"/>
          <a:stretch/>
        </p:blipFill>
        <p:spPr>
          <a:xfrm>
            <a:off x="1752480" y="4038480"/>
            <a:ext cx="114300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atellite.jpg"/>
          <p:cNvPicPr/>
          <p:nvPr/>
        </p:nvPicPr>
        <p:blipFill>
          <a:blip r:embed="rId6"/>
          <a:stretch/>
        </p:blipFill>
        <p:spPr>
          <a:xfrm>
            <a:off x="2895480" y="4572000"/>
            <a:ext cx="2689200" cy="1882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junk.jpg"/>
          <p:cNvPicPr/>
          <p:nvPr/>
        </p:nvPicPr>
        <p:blipFill>
          <a:blip r:embed="rId7"/>
          <a:stretch/>
        </p:blipFill>
        <p:spPr>
          <a:xfrm>
            <a:off x="4876920" y="129528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is the center of our solar syst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rd “solar” means “of the sun”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sun is a medium-sized st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ur sun is medium-hot, and yellow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sun.jpg"/>
          <p:cNvPicPr/>
          <p:nvPr/>
        </p:nvPicPr>
        <p:blipFill>
          <a:blip r:embed="rId2"/>
          <a:stretch/>
        </p:blipFill>
        <p:spPr>
          <a:xfrm>
            <a:off x="3200400" y="4191120"/>
            <a:ext cx="2625840" cy="25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SunIm08_eclipse2.jpg"/>
          <p:cNvPicPr/>
          <p:nvPr/>
        </p:nvPicPr>
        <p:blipFill>
          <a:blip r:embed="rId3"/>
          <a:stretch/>
        </p:blipFill>
        <p:spPr>
          <a:xfrm>
            <a:off x="6248520" y="4495680"/>
            <a:ext cx="221904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sun flare.jpg"/>
          <p:cNvPicPr/>
          <p:nvPr/>
        </p:nvPicPr>
        <p:blipFill>
          <a:blip r:embed="rId4"/>
          <a:stretch/>
        </p:blipFill>
        <p:spPr>
          <a:xfrm>
            <a:off x="380880" y="4619520"/>
            <a:ext cx="2438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has layer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iddle is called the core – it is 27,000,000 degrees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outer layer is the chromosphe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layer under the chromosphere is the photosphere, where light and other forms of energy are relea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nder the photosphere is the convective zone where heat is releas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layer above the core is the radiative zo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un is made up of gass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most abundant gas is Hydrogen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ydrogen is undergoing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fusio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o make Helium, which releases a huge amount of ener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rms of energy released include light, heat, and various rays, like X rays and gamma rays, which are forms of radi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Content Placeholder 3" descr="sun diagram.jpg"/>
          <p:cNvPicPr/>
          <p:nvPr/>
        </p:nvPicPr>
        <p:blipFill>
          <a:blip r:embed="rId1"/>
          <a:stretch/>
        </p:blipFill>
        <p:spPr>
          <a:xfrm>
            <a:off x="3809880" y="3200400"/>
            <a:ext cx="47008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1" name="Picture 4" descr="temp graph of sun.png"/>
          <p:cNvPicPr/>
          <p:nvPr/>
        </p:nvPicPr>
        <p:blipFill>
          <a:blip r:embed="rId1"/>
          <a:stretch/>
        </p:blipFill>
        <p:spPr>
          <a:xfrm>
            <a:off x="5410080" y="3886200"/>
            <a:ext cx="3533760" cy="2590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SunActiv_sunCutaway.gif"/>
          <p:cNvPicPr/>
          <p:nvPr/>
        </p:nvPicPr>
        <p:blipFill>
          <a:blip r:embed="rId2"/>
          <a:stretch/>
        </p:blipFill>
        <p:spPr>
          <a:xfrm>
            <a:off x="609480" y="1828800"/>
            <a:ext cx="4740480" cy="373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sun-full.gif"/>
          <p:cNvPicPr/>
          <p:nvPr/>
        </p:nvPicPr>
        <p:blipFill>
          <a:blip r:embed="rId3"/>
          <a:stretch/>
        </p:blipFill>
        <p:spPr>
          <a:xfrm>
            <a:off x="5410080" y="1522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inner four planets are formed mostly of roc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rcury is fir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very little atmosphe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n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VERY HOT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3" descr="mercury.jpg"/>
          <p:cNvPicPr/>
          <p:nvPr/>
        </p:nvPicPr>
        <p:blipFill>
          <a:blip r:embed="rId2"/>
          <a:stretch/>
        </p:blipFill>
        <p:spPr>
          <a:xfrm>
            <a:off x="4724280" y="3657600"/>
            <a:ext cx="4197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enus is secon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 has a very thick atmosphere, and this makes the temperature the highest in the solar syste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n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is about the same size as Ear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Picture 3" descr="venus.jpg"/>
          <p:cNvPicPr/>
          <p:nvPr/>
        </p:nvPicPr>
        <p:blipFill>
          <a:blip r:embed="rId2"/>
          <a:stretch/>
        </p:blipFill>
        <p:spPr>
          <a:xfrm>
            <a:off x="304812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arth is thir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liquid wa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a medium-thick atmosph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has one mo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’s where we li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Picture 3" descr="earth 1.jpg"/>
          <p:cNvPicPr/>
          <p:nvPr/>
        </p:nvPicPr>
        <p:blipFill>
          <a:blip r:embed="rId2"/>
          <a:stretch/>
        </p:blipFill>
        <p:spPr>
          <a:xfrm>
            <a:off x="5257800" y="3429000"/>
            <a:ext cx="3287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rs is four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has a thinner atmosphere than Ear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surface 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gh winds sometim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wo moo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3" descr="mars.jpg"/>
          <p:cNvPicPr/>
          <p:nvPr/>
        </p:nvPicPr>
        <p:blipFill>
          <a:blip r:embed="rId2"/>
          <a:stretch/>
        </p:blipFill>
        <p:spPr>
          <a:xfrm>
            <a:off x="4419720" y="3581280"/>
            <a:ext cx="3105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9:21:22Z</dcterms:created>
  <dc:creator>Ector County ISD Employee</dc:creator>
  <dc:description/>
  <dc:language>en-US</dc:language>
  <cp:lastModifiedBy>RomaK</cp:lastModifiedBy>
  <dcterms:modified xsi:type="dcterms:W3CDTF">2015-07-31T23:19:38Z</dcterms:modified>
  <cp:revision>54</cp:revision>
  <dc:subject/>
  <dc:title>Our Solar system</dc:title>
</cp:coreProperties>
</file>